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E00D-5ECA-411C-AA23-2ADF426A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1F8-F179-49D6-B672-61390622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705AC-C07B-4F1E-8916-6F280094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82A7E-1178-4935-BB89-6A0E1819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C8352-81EC-4B68-ABFC-668C0019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DFB90-1350-48A6-8B8B-36213A97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9986D-00F0-46FA-9135-A6B84DC5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BC5E2-B1C2-4ECE-A45A-87C73E09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99991-D36A-4FC7-A4C4-02BA403A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7522C-497A-4560-9790-440B54EC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68CCC-1C42-4D84-B0C6-24505A81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07734-9CA4-46D4-B684-9589959B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F6C7-791E-495C-913E-C24E6560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ADE05-8FF8-4905-85DB-E8CF722F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104AE-B534-489A-99A1-B3EECE51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A3017-75DE-4DD2-BDE3-E649CF70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30548-4904-44B1-88DE-71B0DD63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BAD23-34E4-4806-9BB0-FDFB7EEC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269E5-3869-4111-953E-9FBAFDE5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6012B-03DD-4E36-96BB-814BEFCB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1875C-B83B-4044-8E3E-1A1686D8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9A155-FB23-435B-AEEB-6AF8EBAE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A0882-E14A-4CE7-9D7F-7612D192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CC69-DB2F-4AD3-8493-3C9576A2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A4F29-ED1A-4E35-AAF9-06D84D07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DB280-80F0-4CEB-87E3-854A30B5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DA608-FDBF-4EB3-8894-AE9A1D4B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B8025-FEA1-43F7-AE9A-6681B609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BA5E5-6DB5-4C16-94EA-E2A770CB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F1C34-843A-43F7-8A4D-4463A8B3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7982B-4C2F-4CF7-9D18-BFD0F81A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E3C29-0C23-4421-980E-9567D90C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06FEC-B103-4DC0-808B-1CC55FEC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52B37-C512-4960-8FBE-50E92470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D116-8B95-4B96-A2E4-0987FB77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C8585-7093-40DB-B7FB-E486FEF5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A28D8-3BC7-4568-A127-52A68573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9DB32-2D64-47E5-B40B-68AC43CE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5F622-DE19-4A62-B856-F3234B5D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D19B2-F751-4892-ABA5-0B103DF9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2E5A7-9FBC-4C45-867D-970100D4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C83CE-2A7B-4261-AFFC-2BCA08C0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B9DEF-9EB2-4709-B095-EF22C966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77EC8-B793-439F-8872-27D8F583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8ACB0-6CD9-473D-87BC-05124122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2A96-A2E2-4B81-9747-2F4C48F2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E5E00-F7DE-40D3-AA48-6D49369C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20A8F-6C13-4182-931C-C9701A9A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66605-A5FE-42B8-BAB5-4268DD8D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6AC68-46F2-4E76-B5E5-5389FBF8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89DF1-2DD7-46CB-8D65-32FA7EA1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09ACB-A464-46D1-8F0F-E1B8E9BA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25488-495C-4AAA-8660-9EFAE445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3B345-BBD5-4473-9F24-EC295EB8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022AF-0982-4172-A96C-0ED36A4B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77505-E352-4C64-BB50-C08361B7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3593-1E91-40D1-AEAE-65748A77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28FDA6-E99A-4165-AC4E-944932ED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6F546C-F3D4-49B5-A38F-C51EAB54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FF1AB7-323A-474C-A6BB-D6671EF5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1D441-842D-4464-A036-51AF0F82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83A7C-E884-41B5-9CD5-67207889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38B53E-10E9-4793-9036-E28EF6FE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BF7AC-63FD-42FB-B748-71469F16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F0C49-8AF9-4654-A236-87F3F1D7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8022BF-FF46-4B73-8FE5-B6AE1F6F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7A7AD4-53D3-4849-9F90-34E79C62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1E6B-E227-47D8-9DD6-3528CA3F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D669E1-04B1-4870-BF6E-0731E594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7C7BC-8AC0-4248-9641-40072F27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F5ABEA-90FE-4702-A7CD-60C227FC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915809-C381-4E18-AC1B-21F14CCF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2FBEED-FEC4-4038-BE9C-E9EDFD4C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284CC5-8578-4F53-AED3-BA456F37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42A068-EABD-4C50-9B3E-61B00865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2AB984-F1CC-4A19-9C5E-99064987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58125-53FC-4549-AB36-550F4C43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6AF06C-6FEF-4477-9702-6F5D2A63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37E5-A8C1-46D4-A02B-A1FFCCFE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0037F5-77C3-470B-9920-2305EC02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8FEADE-194C-4E93-9310-8F0B3069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1D655C-6D75-443F-A69C-A063525D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BDB381-89BE-400C-A4DD-64C54F2B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C90828-8548-4DE7-A789-43D09079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7A9893-A727-4000-8E35-45BBDD76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F20FB8-03C4-49AD-A071-83BCC00E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0C99AC-AC4F-42E7-B882-85E2076B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B19E89-7CA9-400E-B78B-19E2AA48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206DCD-00D8-4E43-90B8-0EF51E0E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A1AC-F3D4-4D4F-AC23-7C05DAB0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97783B-5285-42FA-B9EB-ED51C60C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5C22F2-B144-4576-8DCA-1E54882A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B8D7FB-1339-4916-9F20-C491EE05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D3C584-A06B-4970-A308-4A38A93C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0428B6-C8A0-4591-A45C-3D2E059C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4AEF29-1160-426B-B96D-20B4F2E8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872DDC-D14A-4888-9A44-66A26244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6CF198-B204-4231-9A6A-9972C5A9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5F17BB-D05D-42C1-B6D4-187202DE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97A715-3850-44B7-87DD-65C6264E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2E60-5220-4017-9B01-84DAF984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FB4628-A80B-4893-9DEF-9A933FA8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3AEFD3-9170-41C9-B612-DD45F937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EBD2C6-7245-4914-9475-A7A9E268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DA95E7-6E31-48DE-BFEC-1F8A44D0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397F90-DED8-46A7-98E9-81B278A3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431D14-3025-4001-8D26-7590BF3F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192C04-8639-41F5-8886-67FFBA68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51782E-87D9-476D-9E2C-B8CB9E34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6E8D5C-74EF-44CE-BBFC-E3FD4090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EE5CB0-520E-4E44-9ED2-B4814766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9C8A-903C-409F-87DF-519A9457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5C4A-635E-45C2-9226-462AF118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DFB74D-6007-4F51-A3A6-5077FFC8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9A34A4-426D-46C2-B176-C7DC6E4B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B6C8CD-3E15-4AA4-9B58-3DD6AFA5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930766-E85C-4A8D-8DCE-6881593C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C26CDA-7DAB-4D3D-97C8-47D791B8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4A5FEB-27C9-4DCF-B96B-F2EAD2D1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654838-11AF-4F5A-A209-62B142DA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FD3B76-6270-4C81-99A7-DC411EEA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FB60B5-DD4A-4677-B44A-041AAF17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3B4BB5-503C-46BF-AC12-F87790EE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5E1B-796E-4BB5-8C6E-8DA96767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09FC83-77C3-408D-89BC-8C327EF7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13E7D7-F6BE-4701-AAE2-1474E083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ED85F7-2084-4A4F-8B81-37DB6F41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0CAD49-13E8-452B-A4D0-DD83D489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546F95-3159-441D-BEB0-3C17C778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DA52F2-9BC2-4195-94D7-34E2956D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529334-6708-4FDA-8C41-F7F2C75A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6AEA-67C3-4B46-BC6A-C5C58DE7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70EB-F838-4FC5-A5C0-9886B817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70EA-7B7D-415E-99A4-D6F4DB5C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6C880-866A-48C5-916A-B8C82936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BBDE7-1E76-48FB-BBA7-8B610423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DBB68-D43D-44A0-ABA0-5A686BE5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2BBFD-4705-433C-BC21-9E5234C8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F1103-BFC8-4E54-9147-22234B73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6A0-C44C-457C-A21C-C7D67418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F84F7-8417-476C-91B0-63959281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F54B8-AE9E-4842-9DFE-40253330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3BA93-F8EF-4D0B-AE41-A2AD9C6E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461E2-74DD-46DC-A8C1-BB77907E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97FF0-3A8F-4030-B1E8-64CE2623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63265-5F1B-4CA6-89AD-14D6823B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519AB-8C95-471D-982D-D473E62C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A907D-563E-41A1-A40C-E06BBF96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37DC2-8AC0-4D7E-8CC5-1BA41B2B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77C17-BEC3-4109-A188-82A4F186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913B-7DB9-496A-8A7C-CCC50CDD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1B696-1BF4-4F42-AA18-BFACF184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BF99B-70F9-47C4-AB9D-DD01EF4A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9E543-C83F-4263-81F0-5B697539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194C5-8359-4C88-9CC9-9768AE38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EC5A2-6D3D-4B70-AAF6-8BE65B60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C95A1-6A2C-4E44-BD16-2018FCC9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11A71-A5CB-44FC-9536-466C0BD2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FBD14-F911-4289-8E4F-D6E70FF1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AAE4B-18A3-4515-B417-0E4B1D6E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BB83F-1181-471C-87F1-D1FFF911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DCDC-7A84-455B-A0F5-E2F22395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F635C-91B7-4E45-82DB-CD7F6B8E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7831E-463A-400A-A1B3-427EB62D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27706-2269-4F00-A18D-C0420F0F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63D25-A114-4535-B2F8-681C2B10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D5F22-C062-4748-AF80-A554E2D6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A3B02-7BBE-4092-AE6E-F415E1C7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9EA80-70F9-421E-A7E0-6A525522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3210F-BF17-4144-8A5D-65E8B479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6EFCA-CEB4-4181-AC41-B022EDC1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874FD-8615-468F-A3FA-80409EA4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BBB-513E-4549-8C2A-87B877D1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13692-4A35-4B82-9921-155B75EF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42C8E-92EF-4CDE-B332-C82A3B86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C412A-DA0F-4635-B38D-FFFC9759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5D3D1-F4C7-4761-8C87-E74D701C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698F5-FE39-475F-B2AF-95E6DAA5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FED54-3705-4839-A71C-2F646995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CC6A6-87B5-4EB5-AFBB-97EC061D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CB792-D65B-42BB-B1B9-1D5271A2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D2BEF-E3C7-4733-B2E5-202988C9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E4E2F-9EE5-49C5-9B36-25232147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462-EC18-4C98-BC7A-C953EECB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EE09C-E6A6-4294-901B-E356E815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C24E8-A523-4FB2-B3AD-79A35496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66C17-5F5A-452E-825A-25CD4358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E3FEE-06BC-445B-AEA4-202AC3EC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FD4B4-52C2-4190-80FE-AEDFE42C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67B3E-1B9D-4D62-A4C6-C002D67B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C8D20-0DCC-45C7-AADD-F0306C33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7E269-0C23-429B-95FD-34842D16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23F86-7073-4A38-9319-E59CA1D9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B3148-1CD6-4637-A898-A8E05AEE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12C-B3BA-438F-B7AD-B1782B35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D2A7D-682B-4791-96BB-C60651B9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2B5CA-F7ED-44D2-BCB7-935704DC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A3005-10E3-47CF-8804-364AC4EA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ACD6C-05E5-445D-8ED0-620E3869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62C4C-C4C8-40D6-84FA-47C25B26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09FC3-76D1-4405-BE5C-06AAEAC6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FBB6C-813D-470B-870B-9F71F354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98FE1-18D4-490E-BBCE-B78E868A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74AA9-70B6-4B87-A54E-859935E0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D4A14-1104-4174-A3FA-5B85AB2D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F2C-31B6-4913-96E8-F0C0F6A7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BA88E-FD1A-46FB-B360-4E2B59C1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D4C26-61B5-4524-B3DD-DDBF8F26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F7776-8DBD-493F-8CD1-104D1BB8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579CC-43A1-48A1-932E-16CFD880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2A894-E757-41E5-A88B-07516777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34775-A07A-4C61-89A0-1BD595EC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FDA62-C146-4E47-9BEE-F9F16A6E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35A45-285B-4AE4-8F40-6572C269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14271-968E-479F-86F6-31116A39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D8EE1-8DBF-49B8-B1E3-49E49EB4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F734-1113-4E51-A244-A764077CD7A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BCEE-7247-4203-9AE0-B6D3CBF3569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51B5-EED5-4F06-B9A5-FFD62F84BA0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3037-3B5F-426D-9872-37D8A478191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AD20-E778-44F5-A3FC-B0213268CC0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70FB-C190-4B9A-9C5D-E5B6345007F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C398-EA94-4793-A417-D4A23B46C07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E641-3670-4844-9AC7-680329E4462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A49B-ECD5-40B1-B0B3-96076341825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6B1C-BD5E-4EE4-A9F5-0E1697341B3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3021-42C1-42BB-8C2E-8EF5C2C24BF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C562-2BA7-47CB-8C50-A225371B7C0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FEE5-982A-407C-B805-D55C55086E3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F530-698E-499B-A48D-1688739A0E5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2CDA-D628-4F0D-BC0C-292A7659B1B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DA0D-120D-4218-9959-BBE583C682E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9A9A-2478-4504-BA1B-1636AC5F029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1B6C-5442-4B39-A0C3-68AB3C3430D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 психолого-медико-педагогического консилиума (ПМПк) в образовательной организации (ОО)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250920" y="3212640"/>
            <a:ext cx="8642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59595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лючения специалистов, коллегиальное заключение ПМПк доводятся до сведения родителей (законных представителей)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доступной для понимания форме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предложенные рекомендации реализуют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с их согласия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аправлении ребенка в ПМПК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я коллегиального заключения ПМПк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ыдается родителям (законным представителям) на руки или направляется по почте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и заключений специалистов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яются только по почте или сопровождаются представителем ПМПк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другие учреждения и организации заключения специалистов или коллегиальное заключение ПМПк могут направлять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по официальному запросу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формах учета деятельности специалистов ПМПк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Журнал записи детей на ПМПк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179280" y="1844640"/>
          <a:ext cx="8640720" cy="3637080"/>
        </p:xfrm>
        <a:graphic>
          <a:graphicData uri="http://schemas.openxmlformats.org/drawingml/2006/table">
            <a:tbl>
              <a:tblPr/>
              <a:tblGrid>
                <a:gridCol w="365400"/>
                <a:gridCol w="858600"/>
                <a:gridCol w="1079640"/>
                <a:gridCol w="1297080"/>
                <a:gridCol w="647640"/>
                <a:gridCol w="1536480"/>
                <a:gridCol w="984240"/>
                <a:gridCol w="187164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д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ова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Журнал регистрации заключений и рекомендаций специалистов, коллегиального заключения и рекомендаций ПМПк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250920" y="2781360"/>
          <a:ext cx="8642160" cy="3095640"/>
        </p:xfrm>
        <a:graphic>
          <a:graphicData uri="http://schemas.openxmlformats.org/drawingml/2006/table">
            <a:tbl>
              <a:tblPr/>
              <a:tblGrid>
                <a:gridCol w="353880"/>
                <a:gridCol w="835200"/>
                <a:gridCol w="1052280"/>
                <a:gridCol w="1258920"/>
                <a:gridCol w="631800"/>
                <a:gridCol w="693720"/>
                <a:gridCol w="1582920"/>
                <a:gridCol w="1014480"/>
                <a:gridCol w="1218960"/>
              </a:tblGrid>
              <a:tr h="22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коллегиаль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ПМП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остав ПМП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 в Российской Федерац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РФ от 29.12.2012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273-ФЗ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Принят ГосСоветом РТ 28.06.13 г.). Закон РТ от 22.07.13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68-ЗРТ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сновных гарантиях прав ребенка в РФ»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от 24.07.98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4-ФЗ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НО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ающихся с ОВЗ»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8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образования обучающихся с умственной отсталостью (интеллектуальными нарушениями)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9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Положения о психолого-медико-педагогической комисси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20.09.13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08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психолого-медико-педагогическом консилиуме (ПМПк) образовательного учреждения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 РФ от 27.03.2000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27/901-6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создании условий для получения образования детьми с ограниченными возможностями здоровья и детьми-инвалидам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иН РФ от 18.04.08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порядке создания и организации работы ПМПк ОО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каз руководителя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О при наличии соответствующих специалистов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Устав О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говор между ОО и родителями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законными представителями) обучающего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мерный состав ПМПк (комплексный подход):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щее руководство ПМПк – руководитель О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седатель консилиума - заместитель руководителя ОО по учебно работ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, представляющий ребенка на ПМПк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дефект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рач-педиатр, медицинская сестр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 ПМПк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иагностико-коррекционного ПМП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бучающихся с ОВЗ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сходя из реальных возможностей ОО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татья 3. Закон №273-ФЗ: «в пределах, предоставляемых образовательной организацией». Устав ОО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соответствии со специальными образовательными потребностям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возрастными и индивидуальными особенностями, состоянием соматического и нервно-психического здоровья обучающихся, воспитанников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уктура дефекта: что первично, что вторично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дачи ПМПк 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ыявление и ранняя диагнос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тклонений в развитии и/или состояний декомпенсации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 течение года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офилак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изических, интеллектуальных и эмоционально-личностных перегрузок и срывов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едупреждение хронификации и появления вторично-вторичных дефектов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яв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резервных возможност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азвития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озможность создания новой функциональной системы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характера, продолжительности, эффективности, необходимости изменени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пециальной (коррекционной) помощи в рамках имеющихся в данном ОО возможностей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лановые (1 раз в квартал) и внеплановые консилиумы по запросу родителей, педагогов, других организаций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ка и вед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кументации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отражающей актуальное развитие ребенка, динамику его состояния, уровень успешности (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собы фиксации данных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правление на городскую (районную) ПМПК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определения дальнейшего образовательного маршрута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отсутствии в данном ОО условий, адекватных индивидуальным особенностям ребенка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еобходимости углубленной диагностики и/или разрешения конфликтных и спорных вопрос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значение ведущего специалиста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олигофренопедагог, или тифлопедагог, или сурдопедагог, или учитель-логопед, или нейропсихолог)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б интегрированном воспитании и обучении детей с отклонениями в развитии в дошкольных образовательных учреждениях». Письмо МОиН РФ от 16.01.2002 г.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03-51-5ин /23-03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3588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25056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формы и степени интеграци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ебенка с ОВЗ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 создании условий для получения образования детьми с ОВЗ и детьми-инвалидами». Письмо МОиН РФ от 18.04.08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)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бычном классе по индивидуальному учебному плану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классе </a:t>
            </a:r>
            <a:r>
              <a:rPr b="0" i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мпенсирующ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енности (по профилю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состава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еждисциплинарной команды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жбы 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под руководством ведущего специалист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оводи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ррекционно-развивающее обучение; внеурочную специальную (коррекционную) работу 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оциализация, общение);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слеживание динамики развития ребенка и эффективности оказываемой ему помощи; обучение родителей технологиям сотрудничества с ребенком; оказание психологической поддержки; выходит с инициативой повторных обсуждений на ПМПк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3T12:58:05Z</dcterms:created>
  <dc:creator>Марина</dc:creator>
  <dc:description/>
  <dc:language>en-US</dc:language>
  <cp:lastModifiedBy>Пользователь</cp:lastModifiedBy>
  <dcterms:modified xsi:type="dcterms:W3CDTF">2018-05-16T17:46:14Z</dcterms:modified>
  <cp:revision>31</cp:revision>
  <dc:subject/>
  <dc:title>Алгоритм деятельности психолого-медико-педагогического консилиума (ПМПк) в образовательной организации</dc:title>
</cp:coreProperties>
</file>